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B59-4EB7-46E9-B89A-CAFEAF32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92E-ED26-4D28-AE94-99BC38F1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6FE-529B-4951-8F17-DD6D657A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0115-044A-4DF2-9828-BF14DA36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B895-B8A1-4BC5-9341-1667B1E7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C997-7A4E-4503-B14F-61416746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CBB8-C060-4F44-80FD-6514975F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D8C1-F475-43E8-95D6-63C15950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1027-E56D-43AF-AB04-D5BCA91E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0BB6-1B4F-424B-8271-3F05993A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8ADC-4648-4C3F-9B2C-B40BDEAA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88B-E015-450C-8520-9F1BAA5F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CF27-34A7-493D-9FEE-3F3D888A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DD58-F1DB-404D-A0DC-5050CBCC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0C76-2D04-4D94-8EE8-B27E4980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2466-B510-4C78-848B-47879F2A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3EB6-6943-4069-BFB0-F2161349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94171-5BDD-479F-B8DF-01093A7B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0718A-BFE4-418E-BD94-EB95719E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122A-02DA-40BA-9CFD-A81AFA24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1B047-1B8E-4AEF-A38F-24688587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4E00-5FD8-4EA9-9278-13C1685C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293-657E-4199-8F6E-A03D5BFF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7B6AE-18FA-4A70-A693-9F7618FF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D5194-1782-49A0-8A14-1CF5691C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60EDC-E854-4B8C-A608-C5A9F635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E5CF2-9920-47FC-850B-EB33E344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F331B-D11C-4FF6-8074-9CC8E35A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A557B-3B71-4E56-98B4-E9BC4125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85296-307C-4BDC-B845-43BB6683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111E4-BBA0-4CCA-8004-98305E24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DA221-4BD2-4F20-B51B-BEA4A322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78A6B-A0D4-40C4-BFA9-DF6573B0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B0A-677B-46CA-AC5B-6C044F6D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E41F1-3904-4B3E-8D2B-60CEF083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A2500-44DA-4683-886F-F002CC65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5B940-1C25-4775-B297-1158E35D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CF46D-AE65-4DA7-9EB6-BC05219A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FDADC-A426-4812-A26B-68D3EF54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31EC9-CB8A-428E-B1F7-4947F9E9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A6188-81F0-4243-ABE2-F0B093FC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3C68E-5D95-4D17-86D2-5C87243A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7CAE6-E2DA-4BE0-B33D-192EEECD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F0A4C-DD2F-4437-9D67-894221B5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BAA-02D9-416A-8F68-0CC50EB8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B0D8D-0A28-4821-803D-5949BA0E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B66D5-56EA-4468-8CA7-1714B178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5502E-9EAE-42C8-86C4-0C42DEB6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DCD2A-9BA1-42A8-93EB-3F4B5961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F3CAF-A5F2-444F-805E-3A132F8A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CC055-7618-43B0-83AE-A8E3AE57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FBE33-BDBF-4E7F-B096-6B927355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1FD24-86E5-4FCB-A092-CA14B2FC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96567-4FA5-4C33-831C-A4C94004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D3F74-6DF8-42E5-9D04-CDC81A2A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A90-FF67-4553-8A3A-EA4ADB46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19E7F-AA82-44E2-AA35-C74B2616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032-C2EC-4271-B8AC-3C5727AC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E5C-ED05-4DA6-8B49-05DD26B3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E73-4B13-4A4C-9BEB-19030ADA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6C8E-C415-4A2B-9E2D-56A832D564C0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E43E-877B-49DA-9C00-A0033FA10198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3830-5E72-4B84-8939-358258155095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78F1-6E98-48D0-9F16-A9F006D5C721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75F9-6072-4C44-9813-2DA7454A4F3F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o18.ru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e49"/>
                </a:solidFill>
                <a:latin typeface="Verdana"/>
              </a:rPr>
              <a:t>-С 1600 года исчезло 36 видов млекопитающих и 94 вида птиц</a:t>
            </a:r>
            <a:br>
              <a:rPr sz="3200"/>
            </a:br>
            <a:r>
              <a:rPr b="1" lang="ru-RU" sz="3200" spc="-1" strike="noStrike">
                <a:solidFill>
                  <a:srgbClr val="ff8e49"/>
                </a:solidFill>
                <a:latin typeface="Verdana"/>
              </a:rPr>
              <a:t>-400 лет назад биосфера теряла по 1 виду за 3 года, то в наше время – по 1 виду каждые 8 месяцев</a:t>
            </a:r>
            <a:br>
              <a:rPr sz="3200"/>
            </a:br>
            <a:r>
              <a:rPr b="1" lang="ru-RU" sz="3200" spc="-1" strike="noStrike">
                <a:solidFill>
                  <a:srgbClr val="ff8e49"/>
                </a:solidFill>
                <a:latin typeface="Verdana"/>
              </a:rPr>
              <a:t>-Сегодня на каждого жителя планеты приходится всего лишь по 25 птиц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8e49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21" name="YEnnio_Morikone-Muzika_iz_filma_Telohranitel.mp3" descr=""/>
          <p:cNvPicPr/>
          <p:nvPr/>
        </p:nvPicPr>
        <p:blipFill>
          <a:blip r:embed="rId1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000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183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e49"/>
                </a:solidFill>
                <a:latin typeface="Verdana"/>
              </a:rPr>
              <a:t>Д/з (на выбор)</a:t>
            </a:r>
            <a:br>
              <a:rPr sz="3200"/>
            </a:br>
            <a:r>
              <a:rPr b="1" lang="ru-RU" sz="3200" spc="-1" strike="noStrike">
                <a:solidFill>
                  <a:srgbClr val="ff8e49"/>
                </a:solidFill>
                <a:latin typeface="Verdana"/>
              </a:rPr>
              <a:t> по материалам сегодняшнего урока:</a:t>
            </a:r>
            <a:br>
              <a:rPr sz="3200"/>
            </a:br>
            <a:r>
              <a:rPr b="1" lang="ru-RU" sz="3200" spc="-1" strike="noStrike">
                <a:solidFill>
                  <a:srgbClr val="ff8e49"/>
                </a:solidFill>
                <a:latin typeface="Verdana"/>
              </a:rPr>
              <a:t>- составить крссворд</a:t>
            </a:r>
            <a:br>
              <a:rPr sz="3200"/>
            </a:br>
            <a:r>
              <a:rPr b="1" lang="ru-RU" sz="3200" spc="-1" strike="noStrike">
                <a:solidFill>
                  <a:srgbClr val="ff8e49"/>
                </a:solidFill>
                <a:latin typeface="Verdana"/>
              </a:rPr>
              <a:t>- составить презентацию : «Охраняемые птицы Удмуртии»,</a:t>
            </a:r>
            <a:br>
              <a:rPr sz="3200"/>
            </a:br>
            <a:r>
              <a:rPr b="1" lang="ru-RU" sz="3200" spc="-1" strike="noStrike">
                <a:solidFill>
                  <a:srgbClr val="ff8e49"/>
                </a:solidFill>
                <a:latin typeface="Verdana"/>
              </a:rPr>
              <a:t>«Охраняемые млекопитающие Удмуртии», «Алнашские редкости», …</a:t>
            </a:r>
            <a:endParaRPr b="1" lang="en-US" sz="3200" spc="-1" strike="noStrike">
              <a:solidFill>
                <a:srgbClr val="ff8e4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e49"/>
                </a:solidFill>
                <a:latin typeface="Verdana"/>
              </a:rPr>
              <a:t>Красная книга. Охраняемые животные Удмуртии</a:t>
            </a:r>
            <a:endParaRPr b="1" lang="en-US" sz="41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252"/>
                </a:solidFill>
                <a:latin typeface="Verdana"/>
              </a:rPr>
              <a:t>22 января 2012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e8637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Содержимое 4" descr="30-2010-07-16-07-44_.jpg"/>
          <p:cNvPicPr/>
          <p:nvPr/>
        </p:nvPicPr>
        <p:blipFill>
          <a:blip r:embed="rId1"/>
          <a:stretch/>
        </p:blipFill>
        <p:spPr>
          <a:xfrm>
            <a:off x="233280" y="395280"/>
            <a:ext cx="86058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e8637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Содержимое 4" descr="30-2010-07-16-07-54_.jpg"/>
          <p:cNvPicPr/>
          <p:nvPr/>
        </p:nvPicPr>
        <p:blipFill>
          <a:blip r:embed="rId1"/>
          <a:stretch/>
        </p:blipFill>
        <p:spPr>
          <a:xfrm>
            <a:off x="380880" y="339840"/>
            <a:ext cx="855360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e8637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Содержимое 4" descr="30-2010-07-16-07-24_.jpg"/>
          <p:cNvPicPr/>
          <p:nvPr/>
        </p:nvPicPr>
        <p:blipFill>
          <a:blip r:embed="rId1"/>
          <a:stretch/>
        </p:blipFill>
        <p:spPr>
          <a:xfrm>
            <a:off x="1828800" y="304920"/>
            <a:ext cx="52340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e8637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Содержимое 4" descr="30-2010-07-16-07-06_.jpg"/>
          <p:cNvPicPr/>
          <p:nvPr/>
        </p:nvPicPr>
        <p:blipFill>
          <a:blip r:embed="rId1"/>
          <a:stretch/>
        </p:blipFill>
        <p:spPr>
          <a:xfrm>
            <a:off x="0" y="609480"/>
            <a:ext cx="893124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e8637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Содержимое 4" descr="30-2010-07-16-07-17_.jpg"/>
          <p:cNvPicPr/>
          <p:nvPr/>
        </p:nvPicPr>
        <p:blipFill>
          <a:blip r:embed="rId1"/>
          <a:stretch/>
        </p:blipFill>
        <p:spPr>
          <a:xfrm>
            <a:off x="457200" y="379440"/>
            <a:ext cx="7988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183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2611c"/>
                </a:solidFill>
                <a:uFillTx/>
                <a:latin typeface="Verdana"/>
                <a:hlinkClick r:id="rId1"/>
              </a:rPr>
              <a:t>http://eco18.ru/</a:t>
            </a:r>
            <a:r>
              <a:rPr b="1" lang="ru-RU" sz="3600" spc="-1" strike="noStrike">
                <a:solidFill>
                  <a:srgbClr val="ff8e49"/>
                </a:solidFill>
                <a:latin typeface="Verdana"/>
              </a:rPr>
              <a:t> -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8e49"/>
                </a:solidFill>
                <a:latin typeface="Verdana"/>
              </a:rPr>
              <a:t>Экологический портал Удмуртской республики</a:t>
            </a:r>
            <a:br>
              <a:rPr sz="3600"/>
            </a:b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304920" y="914400"/>
            <a:ext cx="8735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строка – 1 существите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трока - 2 прилагательных к первому сл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трока – 3 глагола к первому слов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строка – предложение из 4 слов, которое показывает ваше отношение к первому сл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строка – синоним к первому сл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04T08:59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